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2D8-B3AE-478C-B6D9-604DE3D6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54D-D09E-487E-B50C-136DD83B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579-B594-4268-831D-BB1CB75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5D8-709A-4171-8ED5-8C6A8F43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5A0-713B-47A9-802F-946FA9E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65F-A7E0-4DA6-ACA6-803FD95C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E90-DC59-4A55-B234-2A558DF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A93-A501-4D6A-A41E-B5BF47FA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871-8ABA-4E2D-84B2-98B41AF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2DE-1921-4014-BDF3-3B98DF5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194-E33D-4C84-97C6-0B7BD81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0FE-F308-47F1-A38D-274F3C7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805-4107-41EA-A7DC-4EC738C6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5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200 nucleotides, 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studio.com/c_%20education%20ma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ie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od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20 000 to 25 000 known genes in human genome (from the Human Genome Project,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95% of the human genome is no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T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oding regions filled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number tandem repeats (VNTR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icro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of repeating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among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harmful (e.g., Huntingto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TRs pres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ome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prot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nucleotide sequence to functioning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ong interspersed nuclear elements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interspersed nuclear elements) might be non-functioning copies of known genes, but their function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1-11-28T18:39:33Z</dcterms:modified>
  <cp:revision>43</cp:revision>
  <dc:subject/>
  <dc:title>Molecular Genetics</dc:title>
</cp:coreProperties>
</file>